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79ED-2EC5-4C4A-887F-AD83A62F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C2E-9828-47DC-A1E7-08B6B51C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C27E-7C7F-409E-AA52-7A2922C7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C420-25E7-4FA0-B66B-5313059C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5469-4268-4A0D-BBDA-01F80925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39EE-0C01-49C1-8B74-F5E0F455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941-8D2A-428D-B248-81D07F4B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F949-AF8E-4348-80BE-E9F0DE17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271-8564-4AE4-BE8A-95EB49BC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C118-36D8-4862-A303-09D59BB0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C83B-D2F9-4F4F-BEB4-A18FD250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CB4-629F-4101-8F0D-DA2085FE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90A9-8B46-45FA-BC64-45785629A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jakethecake.files.wordpress.com/2008/03/penguin.jpg&amp;imgrefurl=http://jakethecake.wordpress.com/2008/03/21/the-penguin/&amp;usg=__V45IkdRjJOPiulXZkk8ji3QTtmw=&amp;h=459&amp;w=362&amp;sz=33&amp;hl=en&amp;start=3&amp;um=1&amp;itbs=1&amp;tbnid=ma6S3x45-77v9M:&amp;tbnh=128&amp;tbnw=101&amp;prev=/images%3Fq%3Dpenguin%26um%3D1%26hl%3Den%26rls%3Dcom.microsoft:en-us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ics.drugstore.com/prodimg/154019/200.jpg&amp;imgrefurl=http://www.drugstore.com/qxp154019_333181_sespider_1_1/germ_x/hand_sanitizer_with_aloe.htm&amp;usg=__JbhjwqOGcp7pxt9e_QKM8R3xafo=&amp;h=200&amp;w=200&amp;sz=10&amp;hl=en&amp;start=7&amp;um=1&amp;itbs=1&amp;tbnid=19NsH1bRqrxGoM:&amp;tbnh=104&amp;tbnw=104&amp;prev=/images%3Fq%3Dgerm%2Bx%26um%3D1%26hl%3Den%26rls%3Dcom.microsoft:en-us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cache2.allposters.com/images/pic/PTGPOD/826309~Chocolate-Chip-Cookie-on-White-Background-Posters.jpg&amp;imgrefurl=http://www.gamespot.com/pages/unions/home.php%3Funion_id%3Dbemaniunion&amp;usg=__qPBI9J30BLT4Aa5XutW9yzxEXqQ=&amp;h=300&amp;w=400&amp;sz=25&amp;hl=en&amp;start=5&amp;um=1&amp;itbs=1&amp;tbnid=fBAm0Xd-g1Sv6M:&amp;tbnh=93&amp;tbnw=124&amp;prev=/images%3Fq%3Dcookie%26um%3D1%26hl%3Den%26rls%3Dcom.microsoft:en-us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-clair-pet-care.com/blog/wp-content/uploads/2008/08/julie-cat-jump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jethrohorowitz.com/wp-content/uploads/2007/05/elmo1.jpg&amp;imgrefurl=http://jethrohorowitz.com/%3Fp%3D157&amp;usg=__o2bCLq5Q3_QbDzyP5WfONnh9WF4=&amp;h=1035&amp;w=1301&amp;sz=63&amp;hl=en&amp;start=3&amp;um=1&amp;itbs=1&amp;tbnid=GJA-a9z7NGvPaM:&amp;tbnh=119&amp;tbnw=150&amp;prev=/images%3Fq%3Delmo%26um%3D1%26hl%3Den%26rls%3Dcom.microsoft:en-us%26tbs%3Disch: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ennisholmesdesigns.com/siteimages/airplane.png&amp;imgrefurl=http://www.dennisholmesdesigns.com/airplane.html&amp;usg=__5SWkDlD5bXjXCz5W7exVxXAY8s4=&amp;h=350&amp;w=350&amp;sz=50&amp;hl=en&amp;start=12&amp;um=1&amp;itbs=1&amp;tbnid=BDUQtiz8uq2D0M:&amp;tbnh=120&amp;tbnw=120&amp;prev=/images%3Fq%3Dairplane%26um%3D1%26hl%3Den%26rls%3Dcom.microsoft:en-us%26tbs%3Disch: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d9"/>
                </a:solidFill>
                <a:latin typeface="Arial"/>
              </a:rPr>
              <a:t>Unit 13 </a:t>
            </a:r>
            <a:br>
              <a:rPr sz="4400"/>
            </a:br>
            <a:r>
              <a:rPr b="0" lang="en-US" sz="4400" spc="-1" strike="noStrike">
                <a:solidFill>
                  <a:srgbClr val="ffffd9"/>
                </a:solidFill>
                <a:latin typeface="Arial"/>
              </a:rPr>
              <a:t>Marker Board </a:t>
            </a:r>
            <a:br>
              <a:rPr sz="4400"/>
            </a:br>
            <a:r>
              <a:rPr b="0" lang="en-US" sz="4400" spc="-1" strike="noStrike">
                <a:solidFill>
                  <a:srgbClr val="ffffd9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d9"/>
                </a:solidFill>
                <a:latin typeface="Arial"/>
              </a:rPr>
              <a:t>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d9"/>
                </a:solidFill>
                <a:latin typeface="Arial"/>
              </a:rPr>
              <a:t>You need a marker board, marker, eraser, calculator, &amp; periodic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s have a pH ___________ than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s have a pH __________ than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e water has a pH of _____ because . . 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666880" y="3886200"/>
            <a:ext cx="5486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because it is neutr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3" descr="ugly_dog"/>
          <p:cNvPicPr/>
          <p:nvPr/>
        </p:nvPicPr>
        <p:blipFill>
          <a:blip r:embed="rId1"/>
          <a:stretch/>
        </p:blipFill>
        <p:spPr>
          <a:xfrm>
            <a:off x="6248520" y="2857680"/>
            <a:ext cx="2895480" cy="21715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36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990720" y="990720"/>
            <a:ext cx="7543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name for the following formulas.  Is it an acid or ba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your answers after you’ve written ALL of them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581280" y="1600200"/>
            <a:ext cx="5562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bromic Acid—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Hydroxide—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us Acid—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sphorous Acid -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monia—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furic Acid—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sium Hydroxide -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ic Acid—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tic Acid—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&amp; balance the equation for the neutralization of sulfuric acid with potassium hydrox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371600" y="472428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 2 KOH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+ 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3676680" y="1901880"/>
          <a:ext cx="11412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76680" y="1901880"/>
                    <a:ext cx="114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Picture 7" descr="107571_f260"/>
          <p:cNvPicPr/>
          <p:nvPr/>
        </p:nvPicPr>
        <p:blipFill>
          <a:blip r:embed="rId3"/>
          <a:stretch/>
        </p:blipFill>
        <p:spPr>
          <a:xfrm>
            <a:off x="5867280" y="2590920"/>
            <a:ext cx="312444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z122076716"/>
          <p:cNvPicPr/>
          <p:nvPr/>
        </p:nvPicPr>
        <p:blipFill>
          <a:blip r:embed="rId1"/>
          <a:stretch/>
        </p:blipFill>
        <p:spPr>
          <a:xfrm>
            <a:off x="5943600" y="2514600"/>
            <a:ext cx="3200400" cy="2298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&amp; balance the neutralization reaction of hydrobromic acid &amp; calcium hydrox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990720" y="3809880"/>
            <a:ext cx="7315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HBr + Ca(OH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+ CaB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mula for the hydronium ion is ____________________ &amp; for the hydroxide ion 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62120" y="4343400"/>
            <a:ext cx="5333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1206565603710195334Anonymous_simple_weather_symbols_1"/>
          <p:cNvPicPr/>
          <p:nvPr/>
        </p:nvPicPr>
        <p:blipFill>
          <a:blip r:embed="rId1"/>
          <a:stretch/>
        </p:blipFill>
        <p:spPr>
          <a:xfrm>
            <a:off x="6248520" y="4114800"/>
            <a:ext cx="232416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 is really just a _______________ and cannot exist in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990720" y="40384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Pro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aba0289l"/>
          <p:cNvPicPr/>
          <p:nvPr/>
        </p:nvPicPr>
        <p:blipFill>
          <a:blip r:embed="rId1"/>
          <a:stretch/>
        </p:blipFill>
        <p:spPr>
          <a:xfrm>
            <a:off x="6553080" y="4114800"/>
            <a:ext cx="2297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ation for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ionization of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143000" y="419112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Success_Failure"/>
          <p:cNvPicPr/>
          <p:nvPr/>
        </p:nvPicPr>
        <p:blipFill>
          <a:blip r:embed="rId1"/>
          <a:stretch/>
        </p:blipFill>
        <p:spPr>
          <a:xfrm>
            <a:off x="0" y="1523880"/>
            <a:ext cx="19573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ula for calculating 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from pH is ______________________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ype this into my calculator as: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142000" y="4103640"/>
            <a:ext cx="43074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= 10^(-p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g (negative p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mula for calculating [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from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is ______________________.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ype this into my calculator as: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57200" y="3570120"/>
            <a:ext cx="878040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Kw =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= 1.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0 x 10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0 E -14 / [OH-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formulas for pH,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ntration, pOH, &amp;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n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62120" y="3352680"/>
            <a:ext cx="807696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OR 14 - p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+] = 10^(- pH) OR 1.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H = -log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OR 14 -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H-] = 10^(- pOH) OR 1.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 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4 properties of ac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octopus"/>
          <p:cNvPicPr/>
          <p:nvPr/>
        </p:nvPicPr>
        <p:blipFill>
          <a:blip r:embed="rId1"/>
          <a:stretch/>
        </p:blipFill>
        <p:spPr>
          <a:xfrm>
            <a:off x="5105520" y="152280"/>
            <a:ext cx="3809880" cy="2934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457200" y="365760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– Sour t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– React with metals to form hydrogen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– React with metal carbonates to form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– Turn indicators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 +  pOH  = 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87600" y="4114800"/>
            <a:ext cx="208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H of an HCl solution with a concentration of 0.0015 M? Acidic or ba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14600" y="4114800"/>
            <a:ext cx="54702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pH = -log (0.0015) = 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H of a solution with an pOH of 10.5?  Acidic or ba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20720" y="3962520"/>
            <a:ext cx="683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pH = 14 – pOH = 14 – 10.5 = 3.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Acid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of a solution with a pH of 4.5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09480" y="4267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[H+] = 10^(-4.51) = 3.0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OH of a solution with a [H+] of 9.99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?  Acidic or ba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762120" y="3276720"/>
            <a:ext cx="784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pOH = -log [OH-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H-] = 1.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 9.9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.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H = -log(1.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6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14 – 6.0 = 8.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OH of a solution with 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OH-] of 7.81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?  Acidic or ba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914400" y="434340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pOH = -log [OH-]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log (7.81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2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14 – 2.1 = 11.9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if the pOH is 5.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90920" y="4114800"/>
            <a:ext cx="69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= 10^(-5.21) = 6.1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6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urpose of a titration?  What is the role of an indicator in a titration?  What has been reached when acid and base completely neutralize one an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04920" y="342900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t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ables you to determine the concentration of a solution by reacting a known volume of the solution with a solution of known concen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dic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s color when the end point of the titration has been re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 poi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been re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dd a substance to pure water and the pH rises from 7 to 9.  What has happened to the concentration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 Is the substance added an acid or a b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838080" y="4572000"/>
            <a:ext cx="7620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The concentration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decreased.  The substance is a 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titration of a strong acid with a strong base, what pH range should the indicator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840240" y="4572000"/>
            <a:ext cx="21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6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4 properties of b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pengu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380880"/>
            <a:ext cx="1743120" cy="2210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04920" y="365760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– Taste b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– Unreactive with metals and carbo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– Feel slipp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– Turn indicator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balanced equation for the reaction between nitric acid and magnesium hydrox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86880" y="3581280"/>
            <a:ext cx="66567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Mg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g(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olarity of 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15.0 mL is completely neutralized by 38.5 mL of 0.15 M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86520" y="3429000"/>
            <a:ext cx="655776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Mg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g(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VaCb = MbVb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(15.0)( 1) = (0.15)(38.5)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 = 0.77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Arrheniu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s ionize to produce _______ ions &amp; bases ionize to produce _______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3962520"/>
            <a:ext cx="307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2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4956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onsted acid _____________ a _______________ and a base ______________ a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 is a substance that can either donate or accept a H+ 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780480" y="4572000"/>
            <a:ext cx="520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onates, hydrogen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ccepts, hydrogen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mphoprotic/Amphot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826309~Chocolate-Chip-Cookie-on-White-Background-Post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the Acid, Base, Conjugate Acid, &amp; Conjugate Base for each reaction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+ 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+ 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80880" y="3733920"/>
            <a:ext cx="830592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+ 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+  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See full size image">
            <a:hlinkClick r:id="rId1"/>
          </p:cNvPr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248520" y="3581280"/>
            <a:ext cx="2325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acids ionize _______________ while weak acids ionize 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the stronger ac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alic Acid:  Ka = 5.1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ic Acid:  Ka = 4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elmo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4741920"/>
            <a:ext cx="2666880" cy="2116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457200" y="4419720"/>
            <a:ext cx="5715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ly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partially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alic Acid (larger Ka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n acid reacts with a base to neutralize it, the products are a ___________ &amp; 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airpla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36576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914400" y="47242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Salt &amp;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(write the formula for) the 6 strong ac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albert-einstein1"/>
          <p:cNvPicPr/>
          <p:nvPr/>
        </p:nvPicPr>
        <p:blipFill>
          <a:blip r:embed="rId1"/>
          <a:stretch/>
        </p:blipFill>
        <p:spPr>
          <a:xfrm>
            <a:off x="304920" y="3733920"/>
            <a:ext cx="1962000" cy="2544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2971800" y="2286000"/>
            <a:ext cx="441972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4:00:22Z</dcterms:created>
  <dc:creator>SFSD</dc:creator>
  <dc:description/>
  <dc:language>en-US</dc:language>
  <cp:lastModifiedBy>MO043</cp:lastModifiedBy>
  <dcterms:modified xsi:type="dcterms:W3CDTF">2011-04-22T19:03:24Z</dcterms:modified>
  <cp:revision>38</cp:revision>
  <dc:subject/>
  <dc:title>Unit 13 Marker Board Review</dc:title>
</cp:coreProperties>
</file>